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C13-57AF-4D6D-BE8D-1A05C524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877-E360-451A-B28E-5E99832F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399-4083-403F-B7A7-6D4B1F5D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8FF-E253-4530-9EF5-317DB31B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08B-572C-434E-9233-DAA67281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3F7-1629-4276-91BC-80D93A97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64E-57AB-4F5E-A184-EE3ACC1A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32B-26BE-4715-8D66-27BEF2E4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E03-6030-4E73-83AB-1287B967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2C0-E1F7-4800-8890-BB25FF7B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C49-7F87-44D7-876F-70A9E853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FDC-AF46-448C-9CDA-1D0735D1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E220-2476-485D-A6F8-1F1BE3874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Kv6RcXa2UI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b/be/Sputnik_asm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ndustrial Revolution Sp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98989"/>
                </a:solidFill>
                <a:latin typeface="Calibri"/>
              </a:rPr>
              <a:t>1800s-1900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w Energy – Oil and Nuclear Pow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i.treehugger.com/images/2007/10/24/middle-east-oil.jpg"/>
          <p:cNvPicPr/>
          <p:nvPr/>
        </p:nvPicPr>
        <p:blipFill>
          <a:blip r:embed="rId2"/>
          <a:stretch/>
        </p:blipFill>
        <p:spPr>
          <a:xfrm>
            <a:off x="380880" y="1600200"/>
            <a:ext cx="84362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w Energy – Oil and Nuclear Pow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modernsurvivalblog.com/wp-content/uploads/2011/03/nuclear-weapons-of-the-world-map.jpg"/>
          <p:cNvPicPr/>
          <p:nvPr/>
        </p:nvPicPr>
        <p:blipFill>
          <a:blip r:embed="rId2"/>
          <a:stretch/>
        </p:blipFill>
        <p:spPr>
          <a:xfrm>
            <a:off x="1828800" y="1600200"/>
            <a:ext cx="48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na and In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img.alibaba.com/photo/278991799/Shipping_Service_Freight_forwarding_from_China_to_Dubai_Pakistan_and_India.jpg"/>
          <p:cNvPicPr/>
          <p:nvPr/>
        </p:nvPicPr>
        <p:blipFill>
          <a:blip r:embed="rId2"/>
          <a:stretch/>
        </p:blipFill>
        <p:spPr>
          <a:xfrm>
            <a:off x="304920" y="3657600"/>
            <a:ext cx="4572000" cy="28764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4"/>
          <p:cNvSpPr/>
          <p:nvPr/>
        </p:nvSpPr>
        <p:spPr>
          <a:xfrm>
            <a:off x="76320" y="-479520"/>
            <a:ext cx="1581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76320" y="-479520"/>
            <a:ext cx="1581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8" descr="http://www.nokiaphones.net/wp-content/uploads/2010/01/nokia.jpg"/>
          <p:cNvPicPr/>
          <p:nvPr/>
        </p:nvPicPr>
        <p:blipFill>
          <a:blip r:embed="rId3"/>
          <a:stretch/>
        </p:blipFill>
        <p:spPr>
          <a:xfrm>
            <a:off x="4876920" y="1219320"/>
            <a:ext cx="4057560" cy="2576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http://www.thehindu.com/multimedia/dynamic/00135/TH27_LABOR_135211f.jpg"/>
          <p:cNvPicPr/>
          <p:nvPr/>
        </p:nvPicPr>
        <p:blipFill>
          <a:blip r:embed="rId4"/>
          <a:stretch/>
        </p:blipFill>
        <p:spPr>
          <a:xfrm>
            <a:off x="380880" y="1143000"/>
            <a:ext cx="4267440" cy="284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globaleye.org.uk/secondary_summer/oncamera/images/india-factory_large.jpg"/>
          <p:cNvPicPr/>
          <p:nvPr/>
        </p:nvPicPr>
        <p:blipFill>
          <a:blip r:embed="rId5"/>
          <a:stretch/>
        </p:blipFill>
        <p:spPr>
          <a:xfrm>
            <a:off x="4381560" y="3505320"/>
            <a:ext cx="47624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Economics – North America as Consumer, not Producer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pKv6RcXa2U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twolia.com/blogs/zoboxrox/files/2008/12/wal-mart-image.jpg"/>
          <p:cNvPicPr/>
          <p:nvPr/>
        </p:nvPicPr>
        <p:blipFill>
          <a:blip r:embed="rId2"/>
          <a:stretch/>
        </p:blipFill>
        <p:spPr>
          <a:xfrm>
            <a:off x="685800" y="3048120"/>
            <a:ext cx="3352680" cy="3343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cache4.asset-cache.net/xc/3046698.jpg?v=1&amp;c=IWSAsset&amp;k=2&amp;d=77BFBA49EF878921F7C3FC3F69D929FDE3786E6A262434F897E9081EF2E5F5830298F0AC7D8758ABE30A760B0D811297"/>
          <p:cNvPicPr/>
          <p:nvPr/>
        </p:nvPicPr>
        <p:blipFill>
          <a:blip r:embed="rId3"/>
          <a:stretch/>
        </p:blipFill>
        <p:spPr>
          <a:xfrm>
            <a:off x="4419720" y="3048120"/>
            <a:ext cx="46209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ld Industr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climatesight.files.wordpress.com/2010/08/lights.png"/>
          <p:cNvPicPr/>
          <p:nvPr/>
        </p:nvPicPr>
        <p:blipFill>
          <a:blip r:embed="rId2"/>
          <a:stretch/>
        </p:blipFill>
        <p:spPr>
          <a:xfrm>
            <a:off x="90360" y="1523880"/>
            <a:ext cx="9053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pread of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tretch/>
        </p:blipFill>
        <p:spPr>
          <a:xfrm>
            <a:off x="274680" y="1504800"/>
            <a:ext cx="843120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stry in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bsfsry.com/steamloco/images/union77a.jpg"/>
          <p:cNvPicPr/>
          <p:nvPr/>
        </p:nvPicPr>
        <p:blipFill>
          <a:blip r:embed="rId2"/>
          <a:stretch/>
        </p:blipFill>
        <p:spPr>
          <a:xfrm>
            <a:off x="609480" y="1676520"/>
            <a:ext cx="816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stry in North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0280" y="1676520"/>
            <a:ext cx="7470720" cy="411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explorepahistory.com/images/ExplorePAHistory-a0j8l1-a_349.jpg"/>
          <p:cNvPicPr/>
          <p:nvPr/>
        </p:nvPicPr>
        <p:blipFill>
          <a:blip r:embed="rId2"/>
          <a:stretch/>
        </p:blipFill>
        <p:spPr>
          <a:xfrm>
            <a:off x="457200" y="1600200"/>
            <a:ext cx="8001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virginiawestern.edu/faculty/vwhansd/his122/Images/CoalMiners1900.jpg"/>
          <p:cNvPicPr/>
          <p:nvPr/>
        </p:nvPicPr>
        <p:blipFill>
          <a:blip r:embed="rId2"/>
          <a:stretch/>
        </p:blipFill>
        <p:spPr>
          <a:xfrm>
            <a:off x="1066680" y="1371600"/>
            <a:ext cx="7010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stry in Jap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blog.modernmechanix.com/mags/PopularScience/1-1948/jap_cars_toyota.jpg"/>
          <p:cNvPicPr/>
          <p:nvPr/>
        </p:nvPicPr>
        <p:blipFill>
          <a:blip r:embed="rId2"/>
          <a:stretch/>
        </p:blipFill>
        <p:spPr>
          <a:xfrm>
            <a:off x="1295280" y="1143000"/>
            <a:ext cx="655344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cache1.asset-cache.net/xc/81718513.jpg?v=1&amp;c=IWSAsset&amp;k=2&amp;d=77BFBA49EF8789215ABF3343C02EA5480F337A5FB93F4098009809A1AA1BE2029306530F805CFEAFE30A760B0D811297"/>
          <p:cNvPicPr/>
          <p:nvPr/>
        </p:nvPicPr>
        <p:blipFill>
          <a:blip r:embed="rId2"/>
          <a:stretch/>
        </p:blipFill>
        <p:spPr>
          <a:xfrm>
            <a:off x="990720" y="1371600"/>
            <a:ext cx="72388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stry in Rus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File:Sputnik as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1371600"/>
            <a:ext cx="601992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1:53:44Z</dcterms:created>
  <dc:creator>ED18</dc:creator>
  <dc:description/>
  <dc:language>en-US</dc:language>
  <cp:lastModifiedBy>ED18</cp:lastModifiedBy>
  <dcterms:modified xsi:type="dcterms:W3CDTF">2011-10-19T14:36:33Z</dcterms:modified>
  <cp:revision>5</cp:revision>
  <dc:subject/>
  <dc:title>The Industrial Revolution Spreads</dc:title>
</cp:coreProperties>
</file>